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042F-5EE2-45C6-AA68-5DC9843F36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decides which one she/he did and class have to guess – reverse roles if ti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BD63-CAD8-49A0-8875-78C205A7B4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C5B-872B-4CC1-BB74-0021A066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C96-5012-4C63-883A-7FE7898D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531-9DB8-4BAB-A60F-638FC27E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0D5-7E12-49B1-AAE7-F5AACA10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AC3-8CB6-47BC-A62C-A5896FF4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C70-4D2D-4D85-94FB-15FBACF0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28B-06BC-4232-B451-98C233F5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3D2-6F2C-438A-9CD2-D4F11CF4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324-E02F-47E4-819D-426A2E37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B6D-A6E4-4619-A89E-B3F2B7CC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AC6-DA54-4BDC-B0DD-CD33034D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6DF-AFF4-48E4-BBC9-58006611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B2A0-A977-41CA-8D74-242E557815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’est-ce qu’on a fa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arning 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lking about the present and past, using extended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-1440" y="836640"/>
            <a:ext cx="604044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acheté des vêtements à West Qu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489760" y="1844640"/>
            <a:ext cx="656928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regardé un match de foot à Portsmou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5025960" y="2997360"/>
            <a:ext cx="4071600" cy="9471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suis allé à Southamp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 t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1520" y="0"/>
            <a:ext cx="41630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ez les phrases qui sont vra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5305680" y="4437000"/>
            <a:ext cx="339192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suis allé à Eastle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 auto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355320" y="5732640"/>
            <a:ext cx="54536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e ne suis pas allé à Sout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westquay-thumb-375x500-47641.jpg"/>
          <p:cNvPicPr/>
          <p:nvPr/>
        </p:nvPicPr>
        <p:blipFill>
          <a:blip r:embed="rId1"/>
          <a:stretch/>
        </p:blipFill>
        <p:spPr>
          <a:xfrm>
            <a:off x="179280" y="150804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westwood_796149c.jpg"/>
          <p:cNvPicPr/>
          <p:nvPr/>
        </p:nvPicPr>
        <p:blipFill>
          <a:blip r:embed="rId2"/>
          <a:stretch/>
        </p:blipFill>
        <p:spPr>
          <a:xfrm>
            <a:off x="1908000" y="3573360"/>
            <a:ext cx="28483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43560" y="765000"/>
            <a:ext cx="797904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regardé le match de rugby – Italie contre la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152680" y="3068640"/>
            <a:ext cx="221544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alie a gagné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082840" y="1916280"/>
            <a:ext cx="275328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 France a gag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1520" y="0"/>
            <a:ext cx="41630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ez les phrases qui sont vra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5002920" y="4149720"/>
            <a:ext cx="3603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 France n’a pas gag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473400" y="5373720"/>
            <a:ext cx="55346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’ai pas regardé le match de rug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10035899-france-italy.jpg"/>
          <p:cNvPicPr/>
          <p:nvPr/>
        </p:nvPicPr>
        <p:blipFill>
          <a:blip r:embed="rId1"/>
          <a:stretch/>
        </p:blipFill>
        <p:spPr>
          <a:xfrm>
            <a:off x="317520" y="1646280"/>
            <a:ext cx="43927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206280" y="836640"/>
            <a:ext cx="633600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 y a eu un tremblement de terre au Jap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4454640" y="1773360"/>
            <a:ext cx="434592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 y a eu un tsunami au Jap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4649760" y="3429000"/>
            <a:ext cx="3914640" cy="9471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vu le tremblement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erre à la télévis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1520" y="0"/>
            <a:ext cx="41630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ez les phrases qui sont vra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0" y="4869000"/>
            <a:ext cx="896472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 n’y a pas eu de tremblement de terre Jap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20520" y="6093000"/>
            <a:ext cx="7785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’ai pas vu le tremblement de terre à la télé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japan_tsunami_footage-789306.jpg"/>
          <p:cNvPicPr/>
          <p:nvPr/>
        </p:nvPicPr>
        <p:blipFill>
          <a:blip r:embed="rId1"/>
          <a:stretch/>
        </p:blipFill>
        <p:spPr>
          <a:xfrm>
            <a:off x="324000" y="1557360"/>
            <a:ext cx="3384360" cy="25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Japan%20Earthquake%20Map%202011.jpg"/>
          <p:cNvPicPr/>
          <p:nvPr/>
        </p:nvPicPr>
        <p:blipFill>
          <a:blip r:embed="rId2"/>
          <a:stretch/>
        </p:blipFill>
        <p:spPr>
          <a:xfrm>
            <a:off x="2411280" y="2505240"/>
            <a:ext cx="20163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25920" y="836640"/>
            <a:ext cx="756144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lin firth et Natalie Portman ont gagné des Os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4706280" y="1773360"/>
            <a:ext cx="4419000" cy="13737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lin firth et Natalie Por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’ont pas gagné d’Osc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4650480" y="3429000"/>
            <a:ext cx="4635360" cy="9471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vu la cérémonie des Os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la télévis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1520" y="0"/>
            <a:ext cx="41630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ez les phrases qui sont vra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0" y="4869000"/>
            <a:ext cx="89647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’ai pas vu la cérémonie des Oscars  à la télé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14760" y="6093000"/>
            <a:ext cx="779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’ai pas vu le film qui s’appelle ‘The King’s Speech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Colin firth.jpg"/>
          <p:cNvPicPr/>
          <p:nvPr/>
        </p:nvPicPr>
        <p:blipFill>
          <a:blip r:embed="rId1"/>
          <a:stretch/>
        </p:blipFill>
        <p:spPr>
          <a:xfrm>
            <a:off x="250920" y="1484280"/>
            <a:ext cx="2566800" cy="1657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Natalie Portman.jpg"/>
          <p:cNvPicPr/>
          <p:nvPr/>
        </p:nvPicPr>
        <p:blipFill>
          <a:blip r:embed="rId2"/>
          <a:stretch/>
        </p:blipFill>
        <p:spPr>
          <a:xfrm>
            <a:off x="2820960" y="2276640"/>
            <a:ext cx="177336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2"/>
          <p:cNvSpPr/>
          <p:nvPr/>
        </p:nvSpPr>
        <p:spPr>
          <a:xfrm>
            <a:off x="21960" y="836640"/>
            <a:ext cx="760428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 Egypte et en Lybie on a manifesté pour la liber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693320" y="1773360"/>
            <a:ext cx="4400640" cy="13737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n n’a pas manifesté pour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berté en Egypte ou en Ly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4643280" y="3429000"/>
            <a:ext cx="3762000" cy="9471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vu les manife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la télévis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1520" y="0"/>
            <a:ext cx="41630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ez les phrases qui sont vra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0" y="4869000"/>
            <a:ext cx="89647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’ai pas vu les manifestations à la télé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Lybie.jpg"/>
          <p:cNvPicPr/>
          <p:nvPr/>
        </p:nvPicPr>
        <p:blipFill>
          <a:blip r:embed="rId1"/>
          <a:stretch/>
        </p:blipFill>
        <p:spPr>
          <a:xfrm>
            <a:off x="250920" y="1413000"/>
            <a:ext cx="2493720" cy="165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Egypt.jpg"/>
          <p:cNvPicPr/>
          <p:nvPr/>
        </p:nvPicPr>
        <p:blipFill>
          <a:blip r:embed="rId2"/>
          <a:stretch/>
        </p:blipFill>
        <p:spPr>
          <a:xfrm>
            <a:off x="1692360" y="2852640"/>
            <a:ext cx="2700360" cy="180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Lybia.jpg"/>
          <p:cNvPicPr/>
          <p:nvPr/>
        </p:nvPicPr>
        <p:blipFill>
          <a:blip r:embed="rId3"/>
          <a:stretch/>
        </p:blipFill>
        <p:spPr>
          <a:xfrm>
            <a:off x="2916360" y="1413000"/>
            <a:ext cx="1150920" cy="115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egypt1.jpg"/>
          <p:cNvPicPr/>
          <p:nvPr/>
        </p:nvPicPr>
        <p:blipFill>
          <a:blip r:embed="rId4"/>
          <a:stretch/>
        </p:blipFill>
        <p:spPr>
          <a:xfrm>
            <a:off x="395280" y="2924280"/>
            <a:ext cx="129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23760" y="836640"/>
            <a:ext cx="471168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suis allé à un concert d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387160" y="1989000"/>
            <a:ext cx="6715800" cy="9471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suis allé à un concert de musique clas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376000" y="3357720"/>
            <a:ext cx="5107680" cy="9471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e suis pas allé à un concert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sique clas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1520" y="0"/>
            <a:ext cx="41630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ez les phrases qui sont vra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0" y="4869000"/>
            <a:ext cx="896472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e suis pas allé à un concert d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Stone run.jpg"/>
          <p:cNvPicPr/>
          <p:nvPr/>
        </p:nvPicPr>
        <p:blipFill>
          <a:blip r:embed="rId1"/>
          <a:stretch/>
        </p:blipFill>
        <p:spPr>
          <a:xfrm>
            <a:off x="179280" y="1628640"/>
            <a:ext cx="201636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sitive and neg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jou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regard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 y a e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suis all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’ai pas jou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’nai pas regard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’ai pas 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 n’y a pas e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e suis pas all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5:37:44Z</dcterms:created>
  <dc:creator>ge</dc:creator>
  <dc:description/>
  <dc:language>en-US</dc:language>
  <cp:lastModifiedBy>Jo Rhys-Jones</cp:lastModifiedBy>
  <dcterms:modified xsi:type="dcterms:W3CDTF">2011-03-16T17:29:12Z</dcterms:modified>
  <cp:revision>12</cp:revision>
  <dc:subject/>
  <dc:title>Qu’est-ce qu’on a fait pendant les vacances?</dc:title>
</cp:coreProperties>
</file>